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B37A79-009D-421E-9F45-2F6C44158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text searching in combination with other parameters makes finding papers much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‘circadian rhythm’ nor ‘photomorphogenesis’ is in title or abstract, they are in the full text.  This is a powerful way to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C62-8877-4555-9DDE-8172A7D2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067-BD01-44F0-8B58-1F987199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3B0-BA37-4649-894B-568362A2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BE2-8E7D-4507-9017-696AF42B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A87-AAFE-474E-87CB-C71ACF26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788-712A-440D-9D1E-ED7A1ED7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322-442C-457C-AD92-257EC3E8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EB8-A72F-4134-9409-ED82CC6D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F87-70D0-41AE-AE20-60991B18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95C-3776-4664-932E-6C8110D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25B-24BA-4DE3-989A-6781CD66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1EA-9E33-4208-ABBF-3DE612A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73C0-93C8-4915-BECF-CE4D96396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ny Yoo, Iris Xu, Behzad Mah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09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90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air-lit-curation" descr=""/>
          <p:cNvPicPr/>
          <p:nvPr/>
        </p:nvPicPr>
        <p:blipFill>
          <a:blip r:embed="rId1"/>
          <a:srcRect l="6148" t="6381" r="37136" b="41306"/>
          <a:stretch/>
        </p:blipFill>
        <p:spPr>
          <a:xfrm>
            <a:off x="152280" y="746280"/>
            <a:ext cx="8839440" cy="6111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86120" y="9036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Sesarch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4495680"/>
            <a:ext cx="236232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9640" y="4495680"/>
            <a:ext cx="274320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594360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0" idx="2"/>
            <a:endCxn id="72" idx="1"/>
          </p:cNvCxnSpPr>
          <p:nvPr/>
        </p:nvCxnSpPr>
        <p:spPr>
          <a:xfrm flipH="1" rot="16200000">
            <a:off x="1676160" y="4762080"/>
            <a:ext cx="125820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1" idx="2"/>
            <a:endCxn id="72" idx="3"/>
          </p:cNvCxnSpPr>
          <p:nvPr/>
        </p:nvCxnSpPr>
        <p:spPr>
          <a:xfrm rot="5400000">
            <a:off x="5935680" y="4731480"/>
            <a:ext cx="1258200" cy="18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3"/>
            <a:endCxn id="71" idx="1"/>
          </p:cNvCxnSpPr>
          <p:nvPr/>
        </p:nvCxnSpPr>
        <p:spPr>
          <a:xfrm>
            <a:off x="2590920" y="4762080"/>
            <a:ext cx="3529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504600" y="692280"/>
            <a:ext cx="185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ubuni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80" y="3962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3597120"/>
            <a:ext cx="29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v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6360" y="76320"/>
            <a:ext cx="675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Logic of PubSearch 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7720" y="548640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3960" y="541008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876920"/>
            <a:ext cx="9306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cently Adde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installation package (0.5) that includes Java Swing-based installer, bulk XML loaders for CVs, articles, and genes, stand-alone db schema, samp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user interfaces and rehauled underlying software (Java classes and servlets) for 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text search engine (Apache’s Lucene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, germplasm, and phenotype cu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e annot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0 new relationship types (now ~30 in total) handling Gene-to-Gene and Gene-to-Term anno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rotein modified with, has protein-RNA interactio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 schema implemented in MySQL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bug fixes, code-clean up, and unit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Usage at T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data objects from the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done in data-object centric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data objects handled: genes (at the transcript level),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alleles, germpla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lationships handled: gene2term, gene2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new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IR Installation Statistics (9/12/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272 literatur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20 research papers with abs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642 full-text papers (5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956 controlled vocabulary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5,671 hits between terms and articles (2359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,010 gen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,841 hits between genes and articles (4268 ge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43 hits valid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0% valid, 29% not valid, 0.5% may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,497 manual annotations to 5981 genes from 2113 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 relationship types for gene2term and gene2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3 evidenc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81080" y="304920"/>
          <a:ext cx="5067360" cy="62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4920"/>
                    <a:ext cx="5067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Status from RG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ed on Mac O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s, Literature loaded from R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ighted certain dependencies on TAI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generic loading scripts developed by T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 generation between articles and ontology terms (GO) functioning, still resolving Gene-Article matching and certain user interface issues related to loading non-TAIR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coming 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ing new Generic PubSearch and loading scripts then testing with RGD curation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PubFetch BioMOBY webservice to Pub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ubSearch on Ora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295280" y="0"/>
            <a:ext cx="6629400" cy="6857640"/>
            <a:chOff x="1295280" y="0"/>
            <a:chExt cx="6629400" cy="68576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16876" t="5001" r="19376" b="8332"/>
            <a:stretch/>
          </p:blipFill>
          <p:spPr>
            <a:xfrm>
              <a:off x="1295280" y="0"/>
              <a:ext cx="6629400" cy="61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rcRect l="16876" t="74169" r="19376" b="11667"/>
            <a:stretch/>
          </p:blipFill>
          <p:spPr>
            <a:xfrm>
              <a:off x="1295280" y="5852880"/>
              <a:ext cx="6629400" cy="10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6876" t="7501" r="13749" b="10832"/>
          <a:stretch/>
        </p:blipFill>
        <p:spPr>
          <a:xfrm>
            <a:off x="1066680" y="333360"/>
            <a:ext cx="7391520" cy="652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2362320"/>
            <a:ext cx="251460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4114800"/>
            <a:ext cx="213336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6876" t="14998" r="13749" b="14168"/>
          <a:stretch/>
        </p:blipFill>
        <p:spPr>
          <a:xfrm>
            <a:off x="38088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5880" y="1371600"/>
            <a:ext cx="838440" cy="3808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ing biological information and knowledge from the literature into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odel organism databases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consuming and susceptible to inconsist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come more and more necessary as the amount of computationally derived information increases (more need for bench-mark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295280" y="0"/>
            <a:ext cx="6248520" cy="6857640"/>
            <a:chOff x="1295280" y="0"/>
            <a:chExt cx="6248520" cy="6857640"/>
          </a:xfrm>
        </p:grpSpPr>
        <p:pic>
          <p:nvPicPr>
            <p:cNvPr id="102" name="" descr=""/>
            <p:cNvPicPr/>
            <p:nvPr/>
          </p:nvPicPr>
          <p:blipFill>
            <a:blip r:embed="rId1">
              <a:lum bright="-6000"/>
            </a:blip>
            <a:srcRect l="16876" t="5001" r="19376" b="10832"/>
            <a:stretch/>
          </p:blipFill>
          <p:spPr>
            <a:xfrm>
              <a:off x="1295280" y="0"/>
              <a:ext cx="6248520" cy="64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>
              <a:lum bright="-6000"/>
            </a:blip>
            <a:srcRect l="16876" t="60836" r="19376" b="34529"/>
            <a:stretch/>
          </p:blipFill>
          <p:spPr>
            <a:xfrm>
              <a:off x="1295280" y="6499440"/>
              <a:ext cx="6248520" cy="35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6876" t="8332" r="20625" b="16668"/>
          <a:stretch/>
        </p:blipFill>
        <p:spPr>
          <a:xfrm>
            <a:off x="5335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6876" t="0" r="28127" b="8332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6876" t="0" r="19999" b="12502"/>
          <a:stretch/>
        </p:blipFill>
        <p:spPr>
          <a:xfrm>
            <a:off x="838080" y="0"/>
            <a:ext cx="6596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4266720" y="3428640"/>
            <a:ext cx="304920" cy="1522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17503" r="13749" b="19168"/>
          <a:stretch/>
        </p:blipFill>
        <p:spPr>
          <a:xfrm>
            <a:off x="0" y="914400"/>
            <a:ext cx="89917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0400" y="3124080"/>
            <a:ext cx="914400" cy="2286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42502" b="27500"/>
          <a:stretch/>
        </p:blipFill>
        <p:spPr>
          <a:xfrm>
            <a:off x="990720" y="7632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flipV="1">
            <a:off x="5562720" y="3657240"/>
            <a:ext cx="38088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6876" t="0" r="19999" b="10832"/>
          <a:stretch/>
        </p:blipFill>
        <p:spPr>
          <a:xfrm>
            <a:off x="990720" y="0"/>
            <a:ext cx="64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oftware to the generic_pub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rate DB to Postgre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History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Admin Web 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compound annotation function (using multiple te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approximate searching for term-article hi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is X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ny Y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zad Ma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 Hu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kas Mu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nore R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ifen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a Garcia-H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ya Berar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arna Mund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Mosey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Zoec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ma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e Tackl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7880" y="762120"/>
            <a:ext cx="333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 Tw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ng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jay Narayanas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an Brom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ie de la Cruz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elevant papers according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papers according to X (primary tri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data to curate in a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papers to curator for a data object (e.g. ge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genes that are described in new papers since the last c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status of a paper or a gene in the curation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the description of biological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to relevant attributes of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relevant database objects and their attributes from pap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outside the domain of expertise of a 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ly written papers and ba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and transparency of annotation methods/rules/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562" t="14584" r="14844" b="3125"/>
          <a:stretch/>
        </p:blipFill>
        <p:spPr>
          <a:xfrm>
            <a:off x="457200" y="762120"/>
            <a:ext cx="8153280" cy="60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9920" y="16668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terature Curation Meeting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-Tuesday,October 27-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 Genome Database, Milwaukee, 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opics fo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input to c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on/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on of sequen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uration - e.g., gene families, splice vari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nformation go to bioucurator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mail sbromber@mcw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 Su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is part of the Pub Suite of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Fetch for literature download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for literature annotation (TA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Track for curation tracking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127" t="14584" r="25782" b="3125"/>
          <a:stretch/>
        </p:blipFill>
        <p:spPr>
          <a:xfrm>
            <a:off x="1066680" y="762120"/>
            <a:ext cx="6934320" cy="6019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8280" y="16668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ubSear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 application and database for literature c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complete literatur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, abstracts, full text articles (p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biolog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, proteins,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ontologies (GO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literature, GO terms and biological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manual curation with fast, automatic matching (using suffix trees indic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ssword-protected, and easy to set up and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0:02:11Z</dcterms:created>
  <dc:creator>bmahini</dc:creator>
  <dc:description/>
  <dc:language>en-US</dc:language>
  <cp:lastModifiedBy>rhee</cp:lastModifiedBy>
  <dcterms:modified xsi:type="dcterms:W3CDTF">2003-09-16T13:46:02Z</dcterms:modified>
  <cp:revision>30</cp:revision>
  <dc:subject/>
  <dc:title>PubSearch</dc:title>
</cp:coreProperties>
</file>